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7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LASER.WAV" ContentType="audio/x-wav"/>
  <Override PartName="/ppt/media/image14.wmf" ContentType="image/x-wmf"/>
  <Override PartName="/ppt/media/image5.jpeg" ContentType="image/jpeg"/>
  <Override PartName="/ppt/media/image9.wmf" ContentType="image/x-wmf"/>
  <Override PartName="/ppt/media/image2.png" ContentType="image/png"/>
  <Override PartName="/ppt/media/image4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206-CB91-4174-8914-81E636EA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BA7-EEA3-4195-8D92-C56E43EA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575B0-8AAB-4C29-A26F-1414FD48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1DEB4-BE5C-4C4D-9D99-0C2858AA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309FE-1D88-4DF3-B852-F208630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E65C4-0BCC-489A-BA2F-2DA8A42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CAFCB-6ED3-4E2D-9CBA-DC3E02B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8F67E-6049-4AA7-B567-49B075EC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423E8-6765-4B02-98D8-A0890249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CB62A-28ED-4868-B7B4-A22C3AA1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1E35F-2B51-477D-90F7-A36FE4D9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85C3B-9F3E-4DB8-A350-5819CF03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87B-2062-4B20-AD0B-AC43D170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2372B-C56E-4A56-845A-9C31C2F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3AC22-AF48-49E8-B77D-8A2C1C3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9CC08-833B-4452-9765-00A5B434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4B76F-9085-453E-A872-315EE23A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0A13A-3559-4260-8482-2C15C2F7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453BA-F937-46D9-B2A8-191B8BA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B4B9E-2BE5-4734-84F9-9C3A02A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C3AF7-2097-46CD-B93C-1C78E56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90A7E-CCD9-4DEB-8B2F-06812131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F6688-7D4A-4AF8-9135-FE608B19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28F-0F7B-479E-BDDB-5596A8C6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6AFB4-4860-4785-9F7E-7EF9EE5D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13E75-B7F8-4832-BF38-8A9F2A76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9A526-DD95-4773-866F-6A535CD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E93C5-A785-47C1-8FE5-AD40EE0F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1FE9-373E-4C80-BE28-80C3EFB5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FE136-B955-4182-89B6-E2DCBC0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6ADB4-91CA-49BE-8B9A-5D07E7EB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C1EE6-86E8-447B-A4ED-E70A2CDC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35905-3F8F-445B-889E-113F8DD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906DB-C4BA-4941-9470-3F8D39E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BA84-A9AF-42CE-BA1B-7B82B525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92713-0063-4020-8AD2-C9916565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B621-9B38-4E2B-BF87-CC7163E1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CF116-5FD1-4EFE-A54A-80997F20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952A3-CDBF-4797-BCC3-5F4D4740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C8C11-5C21-4DE1-AB1D-DBD0C301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0A51E-C91C-467B-82D5-45470758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85A06-B720-44E2-BA55-068C97E6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E6820-49F7-45AC-8E77-091E9B7C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F4B87-B15E-4687-884E-1FABDBF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318B2-B68A-465D-BAEF-1F697BB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E8E2-40B2-4BD6-86DB-0B0622E0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20311-DE40-451C-87D0-A69DCA18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248E6-AB09-438F-BEBB-1D291D3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E160F-F164-46EB-91DC-4E597D17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C4BA8-C495-4CD0-9DF1-672C0DA4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4B4EF-AE15-4B42-A837-58B60B88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D07-C959-4482-B2AD-B257480B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6F7E-3A02-41A2-8502-61EDA86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7F37-F99B-46B4-9E91-CCEC174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949B-D89A-461E-AA51-735D91AD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9C11-03CC-4863-8DE8-A6117D71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78E-4F1F-4A15-9917-31E045D9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712F-E409-417C-946A-F2DC631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D7B9-0D8D-4386-B50D-AEF1A61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C1BA-865F-4890-BD22-5EFE4EC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1734-40C6-414D-AC33-70ACFF84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29E7-03AE-4F11-ACA2-466343C2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9DC6-0B40-4D4E-A876-097D9615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1C35-1B08-4388-AD9E-90903EF5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7D11-3787-4EA3-AFD7-0F61A5C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C561-B1E8-4BC1-81C5-FE8CC889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35C1-1625-492C-96DB-33F8153C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A2F-C1AC-4F14-A1FC-B51D5188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BBE3-8C73-4DA3-ABD0-22220176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3067-54AE-471C-934B-69849BB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4A90-57C2-40BE-9D77-45DB04EC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271B-9E25-4A1A-99EC-6132FDC7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8366-E002-4CB6-A928-3CFDCE3A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B19E-E97A-48FC-8C6F-7BECB6A9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5FA5-600F-4DAA-B707-07BCA004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3E1A-9A0A-48EB-80DC-C8729DB0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0F8C-7FEC-44E3-A0A5-829AB726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47DFA-C559-4FC3-80E3-5F0B2C7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40F-C52B-407C-84BA-B7B5163D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3E65-DD21-4061-80DA-7EF6D014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AF00C-83F0-4FE2-9D74-71F684D4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7FFB-FDC4-4EA5-9A9B-DB4138FC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32FC4-76DA-4E80-82F3-CEBC687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7C6A-B209-4229-9D58-B9FCECC4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7084-2123-47C0-B6DA-6B5EC9B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EE7B-24CF-431D-B592-381B438E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973A9-0C19-495E-8AAD-6E5CD156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C712-41C8-4BFA-B311-2AD76B60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D183F-1773-4414-9372-D0CE1467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014-674B-4A81-BC00-F89C9DA0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B4EB-A789-4ADB-9252-8DDD89F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ED42-D432-480E-9B01-6976101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A396F-1E27-4E5E-A5A6-6D187351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140FE-3D9A-4087-8023-FABBFD03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9008-CB74-4497-B4CF-8BD31511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FD96-A10A-407E-9597-A097189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7537-5D60-4AAA-AA98-F860E9B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E562-1874-4C12-BA54-23E1546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2D05-5B03-42D8-BE53-DD31535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9C57-ED2C-4DAC-A39E-90DC936C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C72-120F-478D-96CB-CD68C644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5A621-3809-4E21-BAD3-F5A024D7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83262-9AF4-404C-96B9-7B580450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65CED-A23A-4833-A7D6-0B8B9E3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178ED-60BA-4FA4-A0FA-95550EA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F1BC-382A-418E-A208-6D0D9516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6BC0B-CA93-4278-97DA-3B031CD2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37EBD-2070-4E0A-956F-ABFBD944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EADC4-37B5-43F3-9DBC-9CFF561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425E1-6036-43F0-9801-86188B1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B9A6E-94C5-499E-931A-3B4112D5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552-C5C1-4A46-AAD5-503A49D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17C1-D970-4841-8A12-43799B14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050C5-664D-416F-8DB3-451DDE09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1909-7FF2-40B9-8276-ED024CF7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CB0B-7F16-4DF0-BB84-1725A415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997F2-2307-4B08-A529-12FE78C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B081-798C-4BD4-B090-169CFA2A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A082A-E9B4-4D27-9E4F-517EC9B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A45D5-8EA0-42E3-A614-DE685EBA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0AD8-7A85-4179-ACCF-4A2BD33E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A472-E564-473F-BECB-FF8EEC0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360-9A10-44DE-8015-03B5BB1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2C8E-B275-4EA3-9A12-08C234A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37F2A-3352-4130-82BF-59C402F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EF68E-C17C-46F2-9540-0AD2937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6C3AA-F816-47F9-8837-CE2B40E8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D71AB-8477-4206-9AF7-9F361722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19134-7060-4225-933A-5A9B8AD3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025BD-0F66-44EF-A18B-F76A01F0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71AC-F05F-4E76-98BF-CB2F8C5D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94188-1C68-41FB-BBCE-7C955732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DD61A-CB3E-4D2E-A238-DAC2D0E1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187-9F0D-498F-A841-BBC3013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33B2-277F-436D-AED4-5D1E5EBD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C466-3EE9-48F9-A004-19B8630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C54E-DDC0-4043-98A2-058B232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6511-BEE1-4CC9-B8F9-0AF431F3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26EF-01F5-42C0-8AD3-485A5E0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138F1-4562-43A6-80E3-D01DB65D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49759-9D01-4E85-8B90-9B0D5EB9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FCE5A-20FB-47C9-A9AA-719D5BB9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36FB5-8F07-4D58-82BF-03296BBB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C2EAA-79CC-47DD-BEB1-949DFCBF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3A65-943B-4208-B5DE-458CE48983D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22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624720"/>
            <a:ext cx="6934320" cy="30456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601488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25" name="Minus 11"/>
          <p:cNvSpPr/>
          <p:nvPr/>
        </p:nvSpPr>
        <p:spPr>
          <a:xfrm>
            <a:off x="1447920" y="757080"/>
            <a:ext cx="8839080" cy="38124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E11F-28F0-48FA-97DB-78C31CD79AA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69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72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1A6-7F97-4334-BE97-DC2701F694A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16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19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1B2B-DCD3-49DE-B064-D633CE3EF9D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6624720"/>
            <a:ext cx="6934320" cy="30456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601488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Minus 11"/>
          <p:cNvSpPr/>
          <p:nvPr/>
        </p:nvSpPr>
        <p:spPr>
          <a:xfrm>
            <a:off x="1447920" y="757080"/>
            <a:ext cx="8839080" cy="38124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561-ED5F-4FE2-B99A-5CCA02B5582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E59-E4F5-4925-BA51-47C71A643D8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DF45-F6E4-4260-BFC0-73D511F1B36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90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C417-92E7-4F71-BFA6-9859EACEEC7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34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6624720"/>
            <a:ext cx="6934320" cy="30456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601488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Minus 11"/>
          <p:cNvSpPr/>
          <p:nvPr/>
        </p:nvSpPr>
        <p:spPr>
          <a:xfrm>
            <a:off x="1447920" y="757080"/>
            <a:ext cx="8839080" cy="38124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8EA3-97C6-4D79-A6D8-51A06F52135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81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84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6BC0-9FE6-4854-843F-3EAC961CAAD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28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31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6FD-45C9-468F-A0A2-1DEDE7ABABA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75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" descr="C:\Documents and Settings\sonal.krishna\Desktop\mmg\Picture1.jpg"/>
          <p:cNvPicPr/>
          <p:nvPr/>
        </p:nvPicPr>
        <p:blipFill>
          <a:blip r:embed="rId3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378" name="Minus 11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436A-4EA0-4B5E-B56C-18BC19C4F18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Do you eat a healthy di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11" descr=""/>
          <p:cNvPicPr/>
          <p:nvPr/>
        </p:nvPicPr>
        <p:blipFill>
          <a:blip r:embed="rId1"/>
          <a:stretch/>
        </p:blipFill>
        <p:spPr>
          <a:xfrm>
            <a:off x="2000160" y="2286000"/>
            <a:ext cx="50720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Babies_The_end_prv"/>
          <p:cNvPicPr/>
          <p:nvPr/>
        </p:nvPicPr>
        <p:blipFill>
          <a:blip r:embed="rId1"/>
          <a:stretch/>
        </p:blipFill>
        <p:spPr>
          <a:xfrm>
            <a:off x="200160" y="1000080"/>
            <a:ext cx="6657840" cy="54770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2"/>
          <p:cNvSpPr/>
          <p:nvPr/>
        </p:nvSpPr>
        <p:spPr>
          <a:xfrm>
            <a:off x="3317760" y="76320"/>
            <a:ext cx="206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6366960" y="1500120"/>
            <a:ext cx="2261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ubmitt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Harshit Pand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t. john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98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00120" y="-285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Balanced D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42884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 Black"/>
              </a:rPr>
              <a:t>Food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9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"/>
          <p:cNvPicPr/>
          <p:nvPr/>
        </p:nvPicPr>
        <p:blipFill>
          <a:blip r:embed="rId2"/>
          <a:stretch/>
        </p:blipFill>
        <p:spPr>
          <a:xfrm>
            <a:off x="5929200" y="1714680"/>
            <a:ext cx="251460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611280" y="213336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all need to eat lots of different foods to keep healt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need to eat and balanced and varied di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What do you think this mea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143160" cy="16095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"/>
          <p:cNvSpPr/>
          <p:nvPr/>
        </p:nvSpPr>
        <p:spPr>
          <a:xfrm>
            <a:off x="4874040" y="142920"/>
            <a:ext cx="149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LASER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ater is essential to keep healt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It keeps us hyd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It helps us to digest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4" descr="MCj03972360000[1]"/>
          <p:cNvPicPr/>
          <p:nvPr/>
        </p:nvPicPr>
        <p:blipFill>
          <a:blip r:embed="rId1"/>
          <a:stretch/>
        </p:blipFill>
        <p:spPr>
          <a:xfrm>
            <a:off x="5651640" y="3357720"/>
            <a:ext cx="316548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Fresh fruit and vege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These contain fibre and vitam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fibre keep us healt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 vitamins keep us healt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5" descr="MCj04110410000[1]"/>
          <p:cNvPicPr/>
          <p:nvPr/>
        </p:nvPicPr>
        <p:blipFill>
          <a:blip r:embed="rId1"/>
          <a:stretch/>
        </p:blipFill>
        <p:spPr>
          <a:xfrm>
            <a:off x="468360" y="4797360"/>
            <a:ext cx="1428840" cy="1432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" descr="MCj04283710000[1]"/>
          <p:cNvPicPr/>
          <p:nvPr/>
        </p:nvPicPr>
        <p:blipFill>
          <a:blip r:embed="rId2"/>
          <a:stretch/>
        </p:blipFill>
        <p:spPr>
          <a:xfrm>
            <a:off x="7500960" y="2143080"/>
            <a:ext cx="952560" cy="924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MCj03255180000[1]"/>
          <p:cNvPicPr/>
          <p:nvPr/>
        </p:nvPicPr>
        <p:blipFill>
          <a:blip r:embed="rId3"/>
          <a:stretch/>
        </p:blipFill>
        <p:spPr>
          <a:xfrm>
            <a:off x="6732720" y="4357800"/>
            <a:ext cx="1817640" cy="16333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"/>
          <p:cNvPicPr/>
          <p:nvPr/>
        </p:nvPicPr>
        <p:blipFill>
          <a:blip r:embed="rId4"/>
          <a:stretch/>
        </p:blipFill>
        <p:spPr>
          <a:xfrm>
            <a:off x="2357280" y="4214880"/>
            <a:ext cx="392940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5" name="LASER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need some fats in our diet, but not m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Fats give us energy and can be stored in the body to be used when the body needs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Butter and cooking oils are f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Cheese and nuts are also high in f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4" descr="MCj03483110000[1]"/>
          <p:cNvPicPr/>
          <p:nvPr/>
        </p:nvPicPr>
        <p:blipFill>
          <a:blip r:embed="rId1"/>
          <a:stretch/>
        </p:blipFill>
        <p:spPr>
          <a:xfrm>
            <a:off x="7020000" y="3933720"/>
            <a:ext cx="1709640" cy="12574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LASER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00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Rice, pasta, cereals and bread contain carbohydr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Carbohydrates give us lots of energy that our bodies can easily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y do you think athletes often eat lots of carbohydr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Protein helps our bodies to grow and repair themse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Cheese, fish, meat, milk and nuts contain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6" descr="MCj03831660000[1]"/>
          <p:cNvPicPr/>
          <p:nvPr/>
        </p:nvPicPr>
        <p:blipFill>
          <a:blip r:embed="rId1"/>
          <a:stretch/>
        </p:blipFill>
        <p:spPr>
          <a:xfrm>
            <a:off x="142920" y="4189320"/>
            <a:ext cx="251928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Forte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airy products like cheese, milk and yoghurt contain lots of 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e need calcium to build strong and healthy bones and tee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4" descr="MCj02507670000[1]"/>
          <p:cNvPicPr/>
          <p:nvPr/>
        </p:nvPicPr>
        <p:blipFill>
          <a:blip r:embed="rId1"/>
          <a:stretch/>
        </p:blipFill>
        <p:spPr>
          <a:xfrm>
            <a:off x="357120" y="0"/>
            <a:ext cx="1143000" cy="1389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6:59:17Z</dcterms:created>
  <dc:creator>-</dc:creator>
  <dc:description/>
  <dc:language>en-US</dc:language>
  <cp:lastModifiedBy>sonal.krishna</cp:lastModifiedBy>
  <dcterms:modified xsi:type="dcterms:W3CDTF">2010-12-27T16:17:28Z</dcterms:modified>
  <cp:revision>15</cp:revision>
  <dc:subject/>
  <dc:title>Eating a balanced Di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